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56CA-08AC-4C37-835B-8DA4E019C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0731-2960-4020-B2CF-235D5996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7293-A6C1-4F92-B208-237C163F2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A5CC-894E-47A6-9F7C-8E5C10F2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5013-DE6E-4AB3-B3B9-9C2681F0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B4C3-5D5E-4121-AB90-77763A80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8A32-50C8-46EC-A9F1-644ECC78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A4A6-B8E4-44DA-884F-025DBCAD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B700-E916-45F4-8E59-DFA37243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E41F-4D5A-4AC8-B37F-429A6F87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9399-6F81-49E9-8C4C-79032770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1E2D-8EFF-4101-893E-BB35EA14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178B-F943-49A0-B840-3B749B3F7E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00000" y="404640"/>
            <a:ext cx="799164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лица полна неожиданностей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5" descr="444  img-46357-d847d2dd5c"/>
          <p:cNvPicPr/>
          <p:nvPr/>
        </p:nvPicPr>
        <p:blipFill>
          <a:blip r:embed="rId3"/>
          <a:stretch/>
        </p:blipFill>
        <p:spPr>
          <a:xfrm>
            <a:off x="1403280" y="1413000"/>
            <a:ext cx="6553440" cy="480348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43" name="Rectangle 7"/>
          <p:cNvSpPr/>
          <p:nvPr/>
        </p:nvSpPr>
        <p:spPr>
          <a:xfrm>
            <a:off x="755640" y="6276960"/>
            <a:ext cx="776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«История создания светофор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788000" y="1628640"/>
            <a:ext cx="4038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струкция этого светофора была выполнена в виде циферблата часов, разделенного на секторы зеленого, желтого и красного цветов. Переключение между цветами осуществлялось с помощью стрел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как у часов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Москва  006t71d4"/>
          <p:cNvPicPr/>
          <p:nvPr/>
        </p:nvPicPr>
        <p:blipFill>
          <a:blip r:embed="rId1"/>
          <a:stretch/>
        </p:blipFill>
        <p:spPr>
          <a:xfrm>
            <a:off x="682560" y="1633680"/>
            <a:ext cx="3672000" cy="460188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65" name="WordArt 8"/>
          <p:cNvSpPr txBox="1"/>
          <p:nvPr/>
        </p:nvSpPr>
        <p:spPr>
          <a:xfrm>
            <a:off x="1187280" y="620640"/>
            <a:ext cx="684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Московский светофор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30 - е годы светофор все более совершенствуется, в его конструкцию вносят новые элементы. Постепенно внешний облик светофора приобретает сегодняшний вид, но вверху располагается зеленый сигнал, а внизу – красны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только в 1949 г. было введено единое размещение огней светофора: красный – вверху, зеленый – внизу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78800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 августа во всем мире празднуется День светофо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2011 году этому устройству, без которого сложно представить себе современный город, исполнится 143 год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0001kkpq"/>
          <p:cNvPicPr/>
          <p:nvPr/>
        </p:nvPicPr>
        <p:blipFill>
          <a:blip r:embed="rId1"/>
          <a:stretch/>
        </p:blipFill>
        <p:spPr>
          <a:xfrm>
            <a:off x="539640" y="1484280"/>
            <a:ext cx="3943440" cy="51134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69" name="WordArt 9"/>
          <p:cNvSpPr txBox="1"/>
          <p:nvPr/>
        </p:nvSpPr>
        <p:spPr>
          <a:xfrm>
            <a:off x="1258920" y="260280"/>
            <a:ext cx="6842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Памятник светофору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в Новосибирске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43280" y="476280"/>
            <a:ext cx="4176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нь и ночь нес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зор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дороги светофор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цветами своих глаз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беды спасает н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куратно, не спешим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несемся, не бежим!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ождав совсем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мног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идем через дорогу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9   svetofor"/>
          <p:cNvPicPr/>
          <p:nvPr/>
        </p:nvPicPr>
        <p:blipFill>
          <a:blip r:embed="rId1"/>
          <a:stretch/>
        </p:blipFill>
        <p:spPr>
          <a:xfrm>
            <a:off x="539640" y="404640"/>
            <a:ext cx="3938760" cy="452628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72" name="WordArt 9"/>
          <p:cNvSpPr txBox="1"/>
          <p:nvPr/>
        </p:nvSpPr>
        <p:spPr>
          <a:xfrm>
            <a:off x="900000" y="5373720"/>
            <a:ext cx="7344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Берегите себя и своих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близких!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932360" y="691920"/>
            <a:ext cx="40384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 того как во второй половине XIX века наряду с конными экипажами на дорогах городов появились первые автомобили, возникла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еобходимость упорядочивания движ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транспортных средств — слишком уж различными были их скорость и мобильность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s320x240"/>
          <p:cNvPicPr/>
          <p:nvPr/>
        </p:nvPicPr>
        <p:blipFill>
          <a:blip r:embed="rId1"/>
          <a:stretch/>
        </p:blipFill>
        <p:spPr>
          <a:xfrm>
            <a:off x="250920" y="1700280"/>
            <a:ext cx="5040360" cy="36720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етофо́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от русск. свет и греч. φορός — «несущий») — устройство оптической сигнализации, предназначенное для регулирования движения людей, велосипедов, автомобилей и иных участников дорожного движения, поездов железной дороги и метрополитена, речных и морских су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684360" y="620640"/>
            <a:ext cx="806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История создания светофора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00" y="1700280"/>
            <a:ext cx="4032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были массивные и не слишком удобные сооружения, управлявшиеся специально приставленными к ним полицейски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нем полицейские регулировали движение, поднимая и опуская крыло семафо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темное время суток полицейские включали сигнальный фонарь. Стекла у фонаря были цветными: зеленый сигнал, разрешающий движение, красный – запрещающ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первый dbc486bf687d"/>
          <p:cNvPicPr/>
          <p:nvPr/>
        </p:nvPicPr>
        <p:blipFill>
          <a:blip r:embed="rId1"/>
          <a:stretch/>
        </p:blipFill>
        <p:spPr>
          <a:xfrm>
            <a:off x="395280" y="1773360"/>
            <a:ext cx="4032360" cy="45720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50" name="Rectangle 12"/>
          <p:cNvSpPr/>
          <p:nvPr/>
        </p:nvSpPr>
        <p:spPr>
          <a:xfrm>
            <a:off x="684360" y="259200"/>
            <a:ext cx="764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ый первый автоматический светофор семафорного типа был установлен в Лондоне на площади перед Парламентом 10 декабря 1868 года инженером-механиком Дж. П. Найто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 2 января 1869 года произошла трагедия — один из светофоров взорвался, когда приставленный к нему полицейский пытался его повернуть. Полицейский получил серьезные травмы, и эт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дея регулирования движения была реализована впоследствии только через 40 лет.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910 году  в Чикаго Эрнстом Сиррином  была разработана и запатентована перва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матическая система светофора без участия человека. В его устройстве использовались надписи «STOP» и «Proceed» без подсв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патент 006t6f87"/>
          <p:cNvPicPr/>
          <p:nvPr/>
        </p:nvPicPr>
        <p:blipFill>
          <a:blip r:embed="rId1"/>
          <a:stretch/>
        </p:blipFill>
        <p:spPr>
          <a:xfrm>
            <a:off x="1038240" y="2060640"/>
            <a:ext cx="7373880" cy="452592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1640" y="1844640"/>
            <a:ext cx="4249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914 году в Америке появился первый светофор, который работал при помощи электроэнергии и сигналы подавал электрическими лампочками. Электрический светофор все еще имел два цвета – красный и зеле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андовал сигналами светофора регулировщик, который вместо желтого сигнала подавал предупреждающий звуковой сигна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Йорк 006t5ke0"/>
          <p:cNvPicPr/>
          <p:nvPr/>
        </p:nvPicPr>
        <p:blipFill>
          <a:blip r:embed="rId1"/>
          <a:stretch/>
        </p:blipFill>
        <p:spPr>
          <a:xfrm>
            <a:off x="684360" y="1557360"/>
            <a:ext cx="3765240" cy="499752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56" name="WordArt 8"/>
          <p:cNvSpPr txBox="1"/>
          <p:nvPr/>
        </p:nvSpPr>
        <p:spPr>
          <a:xfrm>
            <a:off x="695160" y="260280"/>
            <a:ext cx="7621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Первый электрический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светофор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42920" y="1341360"/>
            <a:ext cx="41007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1920 году трехцветные светофоры с использованием жёлтого сигнала были установлены в Детройте и Нью – Йорке.  Авторами изобретений были соответственно Уильям Поттс  и Джон  Харрис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пер трехцв b1382"/>
          <p:cNvPicPr/>
          <p:nvPr/>
        </p:nvPicPr>
        <p:blipFill>
          <a:blip r:embed="rId1"/>
          <a:stretch/>
        </p:blipFill>
        <p:spPr>
          <a:xfrm>
            <a:off x="1116000" y="1125360"/>
            <a:ext cx="3311640" cy="52578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59" name="WordArt 10"/>
          <p:cNvSpPr txBox="1"/>
          <p:nvPr/>
        </p:nvSpPr>
        <p:spPr>
          <a:xfrm>
            <a:off x="1476360" y="404640"/>
            <a:ext cx="6624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Трёхцветные светофоры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468360" y="19656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ССР первый светофор установ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5 января 1930 года в Ленинград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ересечении Невского и Литейного проспект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Москва  006t71d4"/>
          <p:cNvPicPr/>
          <p:nvPr/>
        </p:nvPicPr>
        <p:blipFill>
          <a:blip r:embed="rId1"/>
          <a:stretch/>
        </p:blipFill>
        <p:spPr>
          <a:xfrm>
            <a:off x="395280" y="1844640"/>
            <a:ext cx="6045120" cy="452592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62" name="Rectangle 11"/>
          <p:cNvSpPr/>
          <p:nvPr/>
        </p:nvSpPr>
        <p:spPr>
          <a:xfrm>
            <a:off x="6588000" y="2201040"/>
            <a:ext cx="2374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ый светофор в Москве появил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0 декабря того же г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углу улиц Петровка и Кузнецкий мос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7:36:30Z</dcterms:created>
  <dc:creator>Хруцкая Т.В.</dc:creator>
  <dc:description/>
  <dc:language>en-US</dc:language>
  <cp:lastModifiedBy>ната</cp:lastModifiedBy>
  <dcterms:modified xsi:type="dcterms:W3CDTF">2015-04-07T17:53:41Z</dcterms:modified>
  <cp:revision>35</cp:revision>
  <dc:subject/>
  <dc:title>История создания светофора</dc:title>
</cp:coreProperties>
</file>